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ED6-F5C9-4039-B833-C0FA5C78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EB4-3E8D-4643-9CC5-7155ABD5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E74-280C-4113-8EF3-BBAE13AD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57E-9C4B-4EAA-B3BD-6F107508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879D-9EBE-4072-BFD3-75B36766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7D3-3E5F-4AAD-A0EB-3796CF84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B9C-8F87-4A4B-B28F-5E82634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EC6-D855-4CBB-82A3-AEFE2D92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43F-E74F-481C-B63B-8BA970D1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762B-0F6A-4351-8B47-5AF57F4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B4A3-DF0C-43FC-B09E-475460E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085-E1A4-4A4C-B50D-D85D1445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059-F220-43F6-8348-D03C99A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10E5-C49F-43BF-A531-BC640F8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0C7A-EE9A-4364-8E39-5078FE78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2B3D-3366-472A-B42A-AF014BCD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2932-30C4-4AE6-9DFB-B0B5DE67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F8C-8470-4730-81F7-903E571D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032-858F-4CF5-BBA7-53DBC5B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2EB-6888-4B4C-B740-F3A0AF91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1AF-1644-4CAC-988A-FEED58DB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A84-85A4-470D-8F53-23FFB540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039-0CDA-427F-A39B-E0800D3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468-AAB9-4913-82A5-42420C5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88A4-C52F-46D6-91D8-399E8D0F3F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0CA-4CBC-4517-8C74-20C0CCF45A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ainweb.org/girr/tips/tips6/tool_tips/no_1_phillips_small.jpg&amp;imgrefurl=http://www.trainweb.org/girr/tips/tips6/tool_tips/basic.html&amp;usg=__sqH9lJM1DWnMmAzYw5C9lJePKO8=&amp;h=273&amp;w=396&amp;sz=17&amp;hl=en&amp;start=14&amp;um=1&amp;tbnid=uaK6UNH-LM__wM:&amp;tbnh=85&amp;tbnw=124&amp;prev=/images%3Fq%3DPhillips%2Bscrewdrivers%26hl%3Den%26safe%3Dactive%26sa%3DN%26um%3D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rdwarestore.com/pop-print/larger-image.aspx?prodNo=57153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mazon.com/gp/product/images/B0000950RN/ref=dp_image_0?ie=UTF8&amp;n=228013&amp;s=hi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azon.com/KR-Tools-12212-8-Inch-Pliers/dp/B001G614CU/ref=sr_1_1?ie=UTF8&amp;s=hi&amp;qid=1242406952&amp;sr=1-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om/imgres?imgurl=http://zo-d.com/stuff/images/channel-lock-pliers-s.jpg&amp;imgrefurl=http://zo-d.com/stuff/tool-reviews.html&amp;h=199&amp;w=480&amp;sz=13&amp;tbnid=kYHSGoBHkT9T4M::&amp;tbnh=53&amp;tbnw=129&amp;prev=/images%3Fq%3Dchannel%2Block%2Bpliers&amp;hl=en&amp;usg=__HuZrOQ5CRzuo2HRSqzEjNsJqOr8=&amp;ei=rKANSr3zEJiNtgfhmPT4Bw&amp;sa=X&amp;oi=image_result&amp;resnum=4&amp;ct=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dn.dickblick.com/items/330/83/33083-1010-3ww-l.jpg&amp;imgrefurl=http://www.dickblick.com/zz330/83/&amp;h=374&amp;w=600&amp;sz=21&amp;tbnid=JMYuPXr4GS9oLM::&amp;tbnh=84&amp;tbnw=135&amp;prev=/images%3Fq%3Dlong%2Bnose%2Bpliers&amp;hl=en&amp;usg=__Tsjr6_U3Gw9vJz6pfk3wiv49W-U=&amp;ei=5qENSrniD4Kktge5wPmBCA&amp;sa=X&amp;oi=image_result&amp;resnum=9&amp;ct=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com/imgres?imgurl=http://www.customtoolsupply.com/images/326.jpg&amp;imgrefurl=http://www.customtoolsupply.com/catalog.php%3Fmanufacturers_id%3D42&amp;h=360&amp;w=360&amp;sz=44&amp;tbnid=Ma2FZOEBq1D_mM::&amp;tbnh=121&amp;tbnw=121&amp;prev=/images%3Fq%3Dlong%2Bnose%2Bpliers&amp;hl=en&amp;usg=__0Njf35Wz6rFJvNKVEWkjCJ9PxzY=&amp;ei=5qENSrniD4Kktge5wPmBCA&amp;sa=X&amp;oi=image_result&amp;resnum=10&amp;ct=image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com/imgres?imgurl=http://z.about.com/d/familycrafts/1/0/i/o/1/ct2-41_needlenose.jpg&amp;imgrefurl=http://familycrafts.about.com/od/craftstechniques101/ig/Crafters-Toolbox-Beyond-Basics/Needle-Nose-Pliers.htm&amp;usg=__UttmAgeokmoMeAZSS94L6rqOzn0=&amp;h=500&amp;w=321&amp;sz=142&amp;hl=en&amp;start=6&amp;um=1&amp;tbnid=zx6tYLl2iBVSHM:&amp;tbnh=130&amp;tbnw=83&amp;prev=/images%3Fq%3Dneedle%2Bnose%2Bpliers%26hl%3Den%26safe%3Dactive%26sa%3DN%26um%3D1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com/imgres?imgurl=http://www.hyperclaw.com/pic/products/needle-bent-nose-plier-1-L.jpg&amp;imgrefurl=http://www.hyperclaw.com/long_nose.shtml&amp;usg=__ezpLQranFsH5s3aGWoronW2cCFk=&amp;h=1038&amp;w=900&amp;sz=80&amp;hl=en&amp;start=8&amp;um=1&amp;tbnid=fO-yz1ZY95du7M:&amp;tbnh=150&amp;tbnw=130&amp;prev=/images%3Fq%3Dneedle%2Bnose%2Bpliers%26hl%3Den%26safe%3Dactive%26sa%3DN%26um%3D1" TargetMode="External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ortherntool.com/images/product/images/258526_lg.jpg&amp;imgrefurl=http://www.northerntool.com/webapp/wcs/stores/servlet/product_6970_200358003_200358003&amp;h=400&amp;w=400&amp;sz=10&amp;tbnid=EOT4K7b7EOtP3M::&amp;tbnh=124&amp;tbnw=124&amp;prev=/images%3Fq%3Dside%2Bcutting%2Bpliers&amp;hl=en&amp;usg=__83wFfe0hBx8QEJBZn5rbcaHlLsI=&amp;ei=UKINSrSZI9WEtwfa4KiCCA&amp;sa=X&amp;oi=image_result&amp;resnum=2&amp;ct=image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google.com/imgres?imgurl=http://news.thomasnet.com/images/large/011/11812.jpg&amp;imgrefurl=http://news.thomasnet.com/fullstory/11812&amp;h=406&amp;w=1488&amp;sz=200&amp;tbnid=LdIepCisJcI_GM::&amp;tbnh=41&amp;tbnw=150&amp;prev=/images%3Fq%3Dside%2Bcutting%2Bpliers&amp;hl=en&amp;usg=__-6wakILOCQzeMG1k17_Gow8jJLQ=&amp;ei=UKINSrSZI9WEtwfa4KiCCA&amp;sa=X&amp;oi=image_result&amp;resnum=4&amp;ct=image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ouisvilleladder.com/product_info.php?cPath=21_35&amp;products_id=81&amp;osCsid=pcam5estfc42i3t09bkiu71jg6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azon.com/Brands-Inc-Mean-Green-Cleaner/dp/B0014CNFCI/ref=sr_1_1?ie=UTF8&amp;s=hpc&amp;qid=1242402633&amp;sr=8-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hyperlink" Target="http://www.lysol.com/products/all-purpose-cleaners/all-purpose-pour/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ichiganrecycles.org/graphics/EnergyStar4C.gif&amp;imgrefurl=http://moms-er.com/celebrate-the-entire-month-of-april/&amp;h=456&amp;w=791&amp;sz=63&amp;tbnid=EW9D-rZXJKzBbM::&amp;tbnh=82&amp;tbnw=143&amp;prev=/images%3Fq%3Denergy%2Bstar%2Blabel&amp;hl=en&amp;usg=__L9ELDdCGZGRGWwW0SnuqQNaotyo=&amp;ei=PZYNStagAZeqtgecz5iFCA&amp;sa=X&amp;oi=image_result&amp;resnum=4&amp;ct=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media.canada.com/8975269b-0529-4353-a446-596d133824d2/cnsphoto-young-energystar.jpg&amp;imgrefurl=http://www.canada.com/vancouversun/news/story.html%3Fid%3Dd078b496-9138-4531-9598-7bc2574f94e9&amp;h=375&amp;w=375&amp;sz=57&amp;tbnid=ivPiPENudV5f_M::&amp;tbnh=122&amp;tbnw=122&amp;prev=/images%3Fq%3Denergy%2Bstar%2Blabel&amp;hl=en&amp;usg=__8ct5ol6LLIhkJBR-aTf11_geVIk=&amp;ei=PZYNStagAZeqtgecz5iFCA&amp;sa=X&amp;oi=image_result&amp;resnum=3&amp;ct=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rukhier.nl/demo/components/com_virtuemart/shop_image/product/Hammer_4926f26d96402.jpg&amp;imgrefurl=http://www.drukhier.nl/demo/&amp;h=378&amp;w=400&amp;sz=66&amp;tbnid=Y6byYxkPI4eqTM::&amp;tbnh=117&amp;tbnw=124&amp;prev=/images%3Fq%3Dhammer&amp;hl=en&amp;usg=__svmOJwTGnn4X4uhN4WzATCeAtgM=&amp;ei=75YNSsPmDdG9twfJ3tGbCA&amp;sa=X&amp;oi=image_result&amp;resnum=4&amp;ct=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anleytools.com/default.asp?CATEGORY=STANDARD+SCREWDRIVERS&amp;TYPE=PRODUCT&amp;PARTNUMBER=62-552&amp;SDesc=FatMax%26%23174%3B+1%2F4%26%2334%3B+Standard+Stubby+Screwdriver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home.howstuffworks.com/search.php?terms=hand+tools+-autopsies+-garnishing+-grill&amp;media=image&amp;page=2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mnpctech.3dpixelnet.com/picture_library/1redbaron.mx518.logitech8.jpg&amp;imgrefurl=http://forums.amd.com/forum/messageview.cfm%3Fcatid%3D17%26threadid%3D91109&amp;usg=__altY8rIMjLw-XpTTtzAqIn188N0=&amp;h=432&amp;w=576&amp;sz=97&amp;hl=en&amp;start=18&amp;um=1&amp;tbnid=pBVKuH0c1XxHzM:&amp;tbnh=101&amp;tbnw=134&amp;prev=/images%3Fq%3Dflat%2Bhead%2Bscrewdriver%26hl%3Den%26safe%3Dactive%26sa%3DG%26um%3D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comps.fotosearch.com/comp/UNC/UNC311/flathead-screwdriver-tool_~u28379035.jpg&amp;imgrefurl=http://www.fotosearch.com/UNC311/u28379035/&amp;usg=__1ka_fGlNJ1oX5tShQiEt6hyo1aI=&amp;h=320&amp;w=300&amp;sz=15&amp;hl=en&amp;start=22&amp;um=1&amp;tbnid=uc9C4PmXFDEXiM:&amp;tbnh=118&amp;tbnw=111&amp;prev=/images%3Fq%3Dflat%2Bhead%2Bscrewdriver%26ndsp%3D20%26hl%3Den%26safe%3Dactive%26sa%3DN%26start%3D20%26um%3D1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9.01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leaning Tool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hillips hea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its a slot shaped with a X or T shape. Used to assemble furniture, bookcases, cabinets,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505320"/>
            <a:ext cx="1828800" cy="134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justable Wren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tighten and loosen nuts and bo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es in many different siz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nut is hard to turn, apply a lubricant such as WD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8 inch  Automatic Adjustable Wrench"/>
          <p:cNvPicPr/>
          <p:nvPr/>
        </p:nvPicPr>
        <p:blipFill>
          <a:blip r:embed="rId1"/>
          <a:stretch/>
        </p:blipFill>
        <p:spPr>
          <a:xfrm>
            <a:off x="4038480" y="350532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 "/>
          <p:cNvPicPr/>
          <p:nvPr/>
        </p:nvPicPr>
        <p:blipFill>
          <a:blip r:embed="rId2"/>
          <a:stretch/>
        </p:blipFill>
        <p:spPr>
          <a:xfrm>
            <a:off x="1066680" y="4114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el Tape Mea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measure areas larger than 3 feet. Usually retractable and most have thumb loc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standard or metric measu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Lufkin Steel Tape Measure, 50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Stanley 30-485 12-by-1/2-Inch Tape Meas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600"/>
                </a:solidFill>
                <a:latin typeface="Arial"/>
              </a:rPr>
              <a:t>Pli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 used for gripping &amp; cut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lip joint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ves to fit nut and bo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Channel lock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sed for plumbing problems (loosen and tighten nuts/bolt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Product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209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http://zo-d.com/stuff/tool-reviews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562720"/>
            <a:ext cx="18288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Long nose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sed for bending wires and positioning components in smal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llent for floral arranging and craft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http://www.dickblick.com/zz330/83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http://www.customtoolsupply.com/catalog.php?manufacturers_id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6483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495680"/>
            <a:ext cx="790560" cy="1238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411480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ide-cutting pli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sed to cut wire and to strip the insulation and coating off electrical w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http://www.northerntool.com/webapp/wcs/stores/servlet/product_6970_200358003_200358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8098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http://news.thomasnet.com/fullstory/118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886200"/>
            <a:ext cx="20383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d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reach high places in order to reach items, do repairs or paint interiors and exterior walls. Can be small (2-3 steps) up to 16’ or more. Made of aluminum, steel, fiberg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AS2100 Ser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19720"/>
            <a:ext cx="1828800" cy="196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2190960" cy="1819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581280" y="4527720"/>
            <a:ext cx="1905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alla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s/mirrors: Per Danny Lipf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of the picture should be at eye level, approximately 60” from the flo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at least a 3” to 6” gap between the top of a sofa and the bottom of the picture frame, and 4” to 8” inches from a table to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tud and use hardware that is compatible with the weight of the picture or 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6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 Dec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changes to update or change déc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Paint a 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Rearrange furni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Add or take away access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Reupholster furniture or add slip co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Change window trea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Replace flooring, add 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eaning Tools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main Types of cleaning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Tools that remove loose dirt and d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 mop, broom, vacuum cleaner, dusting cl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Tools that remove soil stuck to su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ges, pails, wet mop, toilet bowl brush, stepladder/s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257040"/>
            <a:ext cx="46958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eaning Produc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Cleaning products that every home should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ss clea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se cutting liq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d abrasive pow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Disinfecta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leaning agent that destroys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971800" cy="11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Product Detai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5029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90720" y="518148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lorox 35300CT 409 Formula Cleaner, 128 oz, 4/CT, Pump Bottle, COX35300CT, COX 35300CT"/>
          <p:cNvPicPr/>
          <p:nvPr/>
        </p:nvPicPr>
        <p:blipFill>
          <a:blip r:embed="rId5"/>
          <a:stretch/>
        </p:blipFill>
        <p:spPr>
          <a:xfrm>
            <a:off x="5410080" y="509580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LL PURPOSE CLEANER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4800600"/>
            <a:ext cx="1447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Cleaning R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Check to see if your products can be used for more than one purpo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heck labels to see if toxic, poisonous, or flamm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Check to see if product will harm a surface. Not all products are safe for all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Follow directions of the prod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NEVER MIX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Store away from children and p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 Wear protective glo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eaning Schedule for time management and peo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ai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ake bed, wash dishes, wipe counters, sweep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Wee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hange bed linens, laundry, clean bathroom, vacuum/dust, mop kitchen/b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Month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ean refrigerator, range, kitchen shelves, vacuum furniture and drapes/bli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Semi-annu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ean closets, wash all bedding, wash walls, clean basebo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ving Energy in the Ho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Guide: label that states the yearly average cost to operate an appl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EnergyGuide label shows how a purchaser can compare energy use of product with other similar models, given estimated yearly energy costs."/>
          <p:cNvPicPr/>
          <p:nvPr/>
        </p:nvPicPr>
        <p:blipFill>
          <a:blip r:embed="rId1"/>
          <a:stretch/>
        </p:blipFill>
        <p:spPr>
          <a:xfrm>
            <a:off x="380880" y="2819520"/>
            <a:ext cx="3386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Star Label: product is better for the environment because it LESS energy than standard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http://moms-er.com/celebrate-the-entire-month-of-april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279600"/>
            <a:ext cx="2286000" cy="1311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http://www.canada.com/vancouversun/news/story.html?id=d078b496-9138-4531-9598-7bc2574f94e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886200"/>
            <a:ext cx="21337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air Tools for the Ho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mmer:  has a curved claw, used to drive and pull n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http://www.drukhier.nl/demo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286000"/>
            <a:ext cx="12574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ewdrivers: used to drive and remove scr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Standa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lat head, ranges from very small to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666880"/>
            <a:ext cx="209556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Screwdri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852640"/>
            <a:ext cx="3657600" cy="2614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9112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4952880"/>
            <a:ext cx="1514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5:40:11Z</dcterms:created>
  <dc:creator>s.brooks</dc:creator>
  <dc:description/>
  <dc:language>en-US</dc:language>
  <cp:lastModifiedBy>s.brooks</cp:lastModifiedBy>
  <dcterms:modified xsi:type="dcterms:W3CDTF">2009-05-15T17:58:09Z</dcterms:modified>
  <cp:revision>7</cp:revision>
  <dc:subject/>
  <dc:title>9.01 </dc:title>
</cp:coreProperties>
</file>